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0E5-C21C-4F28-9100-7D55AF6E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8C0-42CC-4EE5-B0CC-E8ED9CD6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86494-A101-4FB9-9F3F-67F4DE37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35018-F96B-4858-86E9-5D421A45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AF30C-2C9C-4CB1-B3C1-DED9EB15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5A82D-75A3-43CE-86B3-3E2218A8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0E7C4-AD05-44E0-9288-6E379D7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3D2EB-B3DF-4614-9ACA-C5BA83A4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DFE29-485D-4258-9F69-015B28F4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50062-F0EB-4007-904F-F00A8818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4ADA2-9C92-48D5-9E1A-CDB6CF52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F4E91-AC76-4872-9040-D7F94EA8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66A-B172-4393-AE76-67C5FFD3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B3340-0A78-4F2B-9C08-4A351FF5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3F2FA-A369-40B4-8EAC-96FFA7FD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6DE9E-9D63-447E-9602-15BB33EE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C51FB-CF42-4BE1-813E-D5660BB9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B7C94-E199-4369-902C-309B1F5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0544C-FA25-49F0-AA00-811992E0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00EAD-0339-4184-9E8F-FB7CABBF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4E1BE-8B77-4217-AC33-209C6476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E01CA-4EEA-4CD2-B683-F6322502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F40F7-F24E-4C89-A96C-C57E42A9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D2A-05EF-44F1-AA49-2747FD24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4BDB6-CF5D-4E01-8258-2249387F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C0EF9-3EE9-4B33-80F7-5D9BC9F2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A3DFE-AE36-4ACF-BFEE-35A71A10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90E68-B9CD-43A2-9684-923EC7EF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8C03E-FEE7-4823-990D-CAF3CAD1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B31A-D3D8-49E9-ACB3-42BDE38E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48CC7-5752-40DA-A50E-ADB1C6D3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5893E-D78D-4B89-9601-EA2F07B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E2676-903B-4D92-8B8A-F0ADA18F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239A8-FDDF-416D-8B86-1D242675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15F-16C7-4B73-9208-400803D2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9EB6E-A793-42BE-AC58-9397160D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D2EF9-31F6-4B37-9993-A931F2C9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86C07-BDD9-41AB-9C73-CE698110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A226F-213E-447E-B495-786B6EC1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A75BB-2BE4-40CF-BDF5-81378D65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39824-C6DC-4673-8B3D-A42D2D88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CD336-6495-4FA2-A17E-8527F82D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C3203-039F-4C87-8407-65666549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F7D0B-7325-4459-85DC-C604172A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C205F-21B5-4BAF-9BE6-63CD20D4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6CAE-CFE4-4E1F-90CE-09B7BA5E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36587-7FBD-4EA5-B0D5-BBDA1A1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F8E6C-ACF9-485C-80C4-0399F59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41DA1-2B2D-4718-9414-045764FE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BFF71-8D89-4102-ACFC-4A66A668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68447-39E3-41C8-BC62-DA2FB9DE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A8646-01E5-4F2E-8024-030FBD8B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31A22-1657-4CD8-95A8-D6F1FEE1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0EF98-F35D-4BED-94B6-F828E7F1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C965A-C775-4302-A398-0D6399D6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6E269-B515-42BE-84CC-E220D69F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440A-8695-4650-9398-6B0E5FBF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42026-81AE-4F28-BE18-9A80197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77F18-8591-4E29-AFA0-3308EF3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8B069-AC4E-4D67-ADC0-13C2E06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2D288-A5B5-4B34-92CC-60C585F0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D56EE-7746-4D80-85D4-E384E259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57EF1-7DDF-45AD-9C51-B011DDAD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8A7F2-FC6C-4D0B-8A42-9BCC353C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8C76D-A3C3-4A5A-B074-E4B1D09F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51DD5-112D-4BD6-9E15-882FA86E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20ECB-7E8F-46F4-9234-C571027B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2CDC-C1F9-40B8-917C-05FD0CB8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86017-D892-440D-871E-40BBC0F9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56FD9-66DF-4B0E-B73B-8C764C51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5759B-65BD-46C7-B4D7-3118219E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BF23B-3F98-41FF-B57B-2EDDC15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75E6E-558D-4768-A185-879B5BD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81F7F-1113-45F4-A439-F44F0894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CB2B1-0082-4603-A902-BC2C2C64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D60C7-602A-4073-A865-941EAD03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FDB7E-563B-48AB-912B-7432EF4D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58012-1CD7-48A5-925F-461DAC5C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5008-6556-4C04-AA44-F409B016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38FD6-F772-41A9-9CB9-CAC798E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8BA5E-8C86-498C-8CDF-C8167D8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F943F-C97E-4100-B91D-BEE5A29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8CC5D-2BC3-4157-8C7F-14912C65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7331C-48FE-42DE-BC0A-825377A9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130D7-9D3F-47AD-9E18-3436AC0B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A3EEE-6E8C-4321-A51A-B7EE2692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CF015-BA78-443E-BE66-82E1B31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15E88-5A20-4F9F-82AE-82214B08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96CDE-716E-43A5-B005-EC578811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9609-1C41-43E2-B8D1-96E265F8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66E22-3135-4432-A83D-788578A6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20327-4B4C-416F-96C6-454BBC7E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885F3-FC12-4E4F-924D-0776A186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873F7-D83A-4BD8-9188-6DA1E56F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CCF3C7-5A9D-4BCA-BBC8-03414F4E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D1010-CBA8-420D-A630-3096BE79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56D731-753E-4325-9141-8C8E46A6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089D9-288B-4487-91AF-784ABBA4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CFD40-F87F-4E28-845A-C7050A5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0AD72-C7F1-41E0-BCB4-30915C4A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D638-D2D6-4B99-B2B4-BF218D72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9E1CE-533C-4A16-9E12-207C97D2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AC305-F8F3-4699-9316-B7EFBB16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89A89-08FE-4663-9735-8A2CFFF7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B89BFD-854B-48BD-B1CE-BCA929F1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9D929-87E9-4337-ABB2-6FA5BADB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95FB9-C381-424A-974A-61104510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C4CFF-DD3A-4B86-9B42-4FF59DC3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6EBAF-1D03-4517-98B3-996ED1ED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E07AC-782F-4D6C-A29D-00D928B8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A5CA7-01A6-4E0E-9B85-5A3A132C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A1C-73C5-4E64-91BD-76C69F6E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A087-3F37-4903-BC47-DF42D038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844C72-3D4F-423C-B989-FC96B05D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94E6D-F902-4698-8242-F18837B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2D2EC-A757-4BE8-BD46-0C1BDB0C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39203-4128-4A7A-9EB4-E66D86AC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4E962-BBC2-45D3-B6FE-DC7F9C70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EEA78-1812-4704-945B-95E38A20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A8F19-2758-4C43-8A14-FBC00614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FF411-249B-47EC-ACC8-F9706CF4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694B2-DF5A-4A32-A3EA-151B571A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0E24F-781E-4EB0-91C0-8302C2A7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36DF-E64C-41FD-9EEE-8F7A8FEC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D750E-4DDC-4164-B46C-01DA6FC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CD17D-87EA-4626-9657-9C12FFA3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CFD3B-FBEB-4FAA-A9E8-25B2B2D1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D1881-E276-44E3-B625-5DBD914A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1C26DA-00F7-4786-B8CE-D2918EB8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EBB6A-DE46-48E4-9C6C-5FF537A6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01973-4BE0-4D71-871D-EB601823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202DC-2BA5-424D-97A3-157C0094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A59E56-E81C-44D0-A99B-2C4962F8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42DF2-F509-4415-8B99-8F0C0F47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2783-D561-4DAB-B5F8-76578B4C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B0AD2-607B-423A-AACE-5304B93E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A636A-51CA-49BD-A47A-0944A8A8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B1F2D-1162-4299-9592-1DD96665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CC7091-1366-4AB3-8485-2B18DA1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F7C1A-6647-4128-BB05-6E4DBDB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27AABD-13FE-4554-A286-123C662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A606B-9DBE-4049-B387-007BA131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8A1AB-2C30-4FE0-8C6C-1BA6CDA1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3C698-3C4E-49D8-840E-7668A266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E03AE-E3DE-494C-AB59-3EF7691D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4E19-4072-4BBE-AB29-40CB5D7D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837FC2-6FCC-475F-A00E-72F032BE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A8C5D-EC9D-4A43-B47E-C224B11A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CC6ED6-2DCA-447F-95B4-11EA999B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54E6B5-C0BE-4B0F-A8FE-E6ACDEA6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8F079-2715-4757-98D9-3821EE7E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12FAD-C05A-4D9E-9747-595FE1C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E341B-0A07-4C9F-A5BA-20EE64B1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51AB17-7CD8-49A2-8030-76C4135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B6117-D3A5-4F33-9D39-FA807C3F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381F7D-0E82-41E2-BEAB-57D8F86B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A8DC-C9EF-4EB1-90B1-3C5D0F37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22F86-9ACA-4BC0-B3E3-4B61604C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2DC1E7-67C7-416A-8737-472C9A20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5C3D6-9701-4D3D-BB42-029B1C06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B140A2-8547-4D13-9151-FC55C3F8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4DF127-5B1A-474A-BA8C-7112C10E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2ADC3-C64B-4ABF-8F5A-AF60E0DA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E7E0D2-6C0A-4B45-8E9A-0B9490C2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78DDCC-ADCD-4ADF-859B-51FA078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B5133F-54F2-4A74-86DB-E170C11F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5DA64-3192-4214-BC8A-7729755C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00B9-6645-4E1C-9A06-0A891191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594A0-0FBA-4E30-8F9B-308A84F8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023D28-5D18-40FA-9600-F97163A6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DA5913-F2E9-4153-9AC6-36E32C99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98D6-EA3F-47E1-AC6B-A252B69F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C223A-3829-4688-8B1F-C8C36974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70DB-5341-4651-9AB2-4C80A295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E775-08ED-4094-852A-B63921D9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86F-7E80-4F89-ADD4-5450C7D1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240F-6D16-446D-BDA0-F581B398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1B26-CA37-46AB-9B24-69B9A6B5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CB27-BE54-4286-83EA-A7BB89E8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D2AF-32CA-4676-BD54-B1F9DD9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AAE8-C032-4145-89E4-A26DBB8B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897E-E502-4947-B724-C51FE85B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9AA3-6FF6-4518-ADE1-0885CD03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E90F-E334-475D-A453-65E4BCD3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FCA3-9BB9-4C6B-9076-A0272766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9871-5A2E-4C43-9A5C-4BCED03A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30F-384C-48B9-83C4-254574A3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29F4-7897-477D-B875-DC9179AA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221F-09B2-4778-99FF-73B16487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9ADD-48F0-4F78-B7AF-3DEF1A85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ACF03-1962-470E-9E0C-804D120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1B93-62BD-4C6F-BCFA-4E0D4E5B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A1E46-5565-4827-A205-E36FF98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3D6E3-B2C5-44AB-A97A-E410944A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DE0B-0455-41B7-9CAB-5DBB355F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62530-E10A-40CB-828D-156798D8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D462-9261-4D40-BA0A-25A78506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39F-39F8-4E79-B4BF-B8267D0A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B020-F819-4AF6-8681-ACB6B642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993E-9240-4208-B43D-E4C4EDF9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02309-49E5-43C0-A5AC-453523CF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29B5C-5A08-4742-8515-54AF2035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FAE66-838A-4143-9342-863548B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F768-9112-412C-9C17-5729A8B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78D7A-D6F8-4DD0-9DA8-D77B78C3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981AF-3165-4040-BDBE-99960B8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52768-867E-4A66-A3AB-BDAB195A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D6E4F-FFBC-4CD9-8135-12E6A388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8C6-E801-443B-98F4-AD55C764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084C-4482-47EC-9D56-1D580B43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EB9A0-CEBD-44E3-82EE-BD3CC3EE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C259A-18E4-4B4E-B16D-0A3C74A1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DCCC1-B659-472B-A4AB-40699C31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765AC-E90A-4D08-BAFA-AB6613D8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12290-F236-4A83-844B-01D9D07F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36C91-D9FE-4983-AA0D-18425DA8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2AE9-C15B-43FA-963B-E5E64EB4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2F8BB-66EF-423D-A0B8-77C2D5B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81811-05AC-473C-9AE4-21781A71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EE9-B304-4193-B6B6-3C34F784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145A0-DAEC-474E-B032-3D7B0627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014CC-CB43-4164-8925-EB3C369F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D069F-E833-43AB-8B47-D7D750C3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51294-D6E6-40A4-B808-63380490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C946E-B182-430E-A6E5-A4B43799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6C6F-0F7B-4C9F-8550-666024F5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341E5-9A71-4377-A51D-30D4AE2E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F439D-00BF-474A-B8A8-499736C7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00B2D-820D-4C81-90DB-A8FDE3CD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229BC-2FA0-42F1-AB3F-A781AE1E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449-B82C-476F-9ECC-A7CBF25C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C0DDB-683A-418D-8339-E23C675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64159-BD03-4B4D-B5C2-DA135F1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DDC85-47A9-40C0-8CD7-5C6CBFF8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2D561-F4AB-4DFF-9DEA-66C93A98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F464A-D694-48D3-A58B-ECC6B9AD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5378-3FAB-452D-8C46-2EB42390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09B93-74A0-4F97-AE23-96E0D60B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2A9E4-6571-44A2-87C3-D3EB1C7D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ACE2-3744-4160-BE23-1E8F5014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14463-2E85-49C5-B83A-139EF69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5B5-A0D3-4092-A194-7BE93176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BAF83-CB19-4982-A01A-CEE7A9A7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A8734-949C-43A3-B6C2-E0A55C8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4D374-B712-4C7D-AE35-53C2EDE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CAE30-EA6A-4E69-9D1C-0E971D39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E3FE5-C682-45EF-819D-EAE30DA1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7EFD5-3EA7-4E31-B0EE-32CAEFA7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ECB43-0917-4299-B3EC-93A83723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950A3-632B-4439-887F-0BEEA783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2A0B7-AC0E-47DE-9CFF-060C9A60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E0184-3735-4BAD-8D0F-2CAE1FFD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DF60-E4AB-4ED0-A105-7D3433A134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E261-4679-4A1B-B445-98B273BDA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0F6C-DA61-4613-9B65-810155CE6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2964-D6C0-4EC1-BC4C-D9CE138A8E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A3B0-AB50-4F2D-B033-CF1906E39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AEF3-D4B1-46E0-BA82-2E56403178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7640-67F4-4B09-B44A-637B0A419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781E-3311-4773-A9DE-6144996CC3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4783-1628-4827-972C-D6C29DC3F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524E-4CD5-46B1-8579-58ED17809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F81-16C4-47A2-8FA4-D796E58B16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A592-17CF-49D5-8491-35E395B2A2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5DA2-D6B3-4C74-AED9-74CEFEB37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93BB-8FFC-4CE5-A349-0BC905FEE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B050-2509-4334-A25B-2AB2A32E57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B66C-91B2-4B7E-BCB7-D82BB4D028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4F4D-70BC-4BEA-8CCA-476115BA5E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42F-956A-42DD-95E3-8EDE19B2A2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C62-A0F3-4F63-8D37-242381700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E979-233C-457B-A54A-2EE0EDCA4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C988-5F1C-45BC-9529-BC51279788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8707-EAE0-47E0-AB43-8B97C1AAEE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15F-6795-4263-BC71-6608A1F8A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ACB7-E104-43FD-B68A-33CECEFC46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B586-60D7-4D6F-891D-AC5FAFDCAC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9D79-3F44-4855-AD9D-3C00ED775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ED1C-BE71-4E5D-B12F-76CD39D29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107A-46F5-49FE-995F-2AAB6DF42C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C8D4-FCB1-45F9-AA86-AF1702DEE3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F251-44B3-4D59-A574-D447E50CE1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CBF1-1289-4CDB-9573-DFA7D88A65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0E52-95F5-4788-AC30-E871065ED0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33EA-53A5-4E64-A2D0-C6CF0656E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4CF6-A83F-47BB-9EB3-20E9B2740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1A96-FFA4-45BE-867A-3391E4799A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01B5-EDE9-46DE-AD90-33BEA0676A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F254-6584-4B71-A056-80F8094D23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712B-3E33-4757-9DFD-7D808A3920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DCF5-B4D1-41A6-B5FC-FC575F1381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EE4C-E5A1-4FBF-B62E-6BBFACEBED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95280" y="3133800"/>
            <a:ext cx="83646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1262160"/>
            <a:ext cx="86104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81040" y="1500120"/>
            <a:ext cx="7981920" cy="3857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1224000" cy="498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427640" y="314172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651640" y="3184560"/>
            <a:ext cx="863640" cy="498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093080" y="314172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1835280" y="3889440"/>
            <a:ext cx="1224000" cy="4982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3276720" y="388944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4427640" y="388944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5651640" y="3932280"/>
            <a:ext cx="863640" cy="498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7093080" y="388944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1835280" y="4624560"/>
            <a:ext cx="1224000" cy="4982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3"/>
          <a:stretch/>
        </p:blipFill>
        <p:spPr>
          <a:xfrm>
            <a:off x="3276720" y="462456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4"/>
          <a:stretch/>
        </p:blipFill>
        <p:spPr>
          <a:xfrm>
            <a:off x="4427640" y="462456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5"/>
          <a:stretch/>
        </p:blipFill>
        <p:spPr>
          <a:xfrm>
            <a:off x="5651640" y="466740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6"/>
          <a:stretch/>
        </p:blipFill>
        <p:spPr>
          <a:xfrm>
            <a:off x="7093080" y="4624560"/>
            <a:ext cx="8636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609480" y="619200"/>
            <a:ext cx="7925040" cy="5619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1873440" cy="4982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284720" y="3170160"/>
            <a:ext cx="2087640" cy="498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4140360" y="3687840"/>
            <a:ext cx="1368360" cy="4982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508720" y="4998960"/>
            <a:ext cx="2519280" cy="498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2612880" y="5516640"/>
            <a:ext cx="792360" cy="4982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6531120" y="5516640"/>
            <a:ext cx="115092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419040" y="738360"/>
            <a:ext cx="8305920" cy="5381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4284720" y="2205000"/>
            <a:ext cx="4788000" cy="498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3995640" y="4869000"/>
            <a:ext cx="4788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048800" cy="278136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6325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8677080" cy="28382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4140360" y="2003400"/>
            <a:ext cx="4032000" cy="498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755640" y="5243400"/>
            <a:ext cx="6769080" cy="498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755640" y="5905440"/>
            <a:ext cx="67690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290520" y="1290600"/>
            <a:ext cx="8562960" cy="42768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5688000" cy="498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755640" y="4927680"/>
            <a:ext cx="5688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237960" y="719280"/>
            <a:ext cx="8668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514440" y="2147760"/>
            <a:ext cx="8115120" cy="2562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324000" y="2117880"/>
            <a:ext cx="4608360" cy="4982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4608360" cy="498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8424720" cy="498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68360" y="4221000"/>
            <a:ext cx="8424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19:0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